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18.pct" ContentType="image/x-pict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A87D9-7806-4FA6-AF0A-ACC5D4DF28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6867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61FD7-C4A5-4A7C-8383-F8877E71B7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6867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6867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EC785-C90E-4D83-B4A0-479B123ACF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6867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6867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6867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584F1-45AC-4F02-B181-759F28A06B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62397-2ACC-40CC-8C20-CABCD87A88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8E279-4009-49FD-AFFB-6CFED52B59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C8FD4-E660-4E8D-82B4-12C0740C56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21FCF-1001-40C3-BAA9-F162C1C037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70E33-33A8-46D9-80FB-4F5D8D0FF9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6867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2EF57-0DA5-494E-876C-882BB17652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6867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B06E4-ACA4-4849-A8FA-5F8E81265E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867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F4241-B74B-4FE0-9F91-8BDA25B020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295280" y="6248520"/>
            <a:ext cx="4724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opyright© Probabilistic Publishing and Robert Winkler, 2003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A077-1568-4A61-9B28-2E67E5EAA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85800" y="6019920"/>
            <a:ext cx="45072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7.2.1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484960" cy="232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F1602-7B3C-440A-8FE2-DA4AECCFE5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 7.6.1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484960" cy="1985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2513A-7809-403E-8E4D-13A249F782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 7.6.2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484960" cy="2963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9A7D3-331F-41F7-85AD-69876938ED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7.7.1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484960" cy="2658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AE6AC-63EB-4EA1-AC43-5AC979A525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7.7.2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484960" cy="2641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E1EC7-49AE-4003-87D5-F196E2BFDD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7.7.3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5484600" cy="2670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C0CF7-A346-47D1-86E9-9236C3DB2D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7.7.4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484960" cy="227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79E5E-E34D-4807-A272-A619788440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7.7.5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484960" cy="2301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81D54-1E2C-4D11-A623-DEFA0B14D2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7.8.1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54280" y="1905120"/>
            <a:ext cx="5484600" cy="2011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62BBB-572C-4443-8376-2D9FA42BAD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 7.3.1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484960" cy="3263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C30B7-91B0-41DA-B80E-9C347F0A4C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7.4.1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484960" cy="2476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58049-5DEC-471F-854C-8DB2E84F50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7.4.2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54280" y="1828800"/>
            <a:ext cx="5484600" cy="2471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61904-F415-40A1-B82D-07D2A3CCA8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7.4.3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484960" cy="3165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F7686-7819-4FDE-A2A5-C3934BB9DE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7.4.4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30240" y="1828800"/>
            <a:ext cx="5484960" cy="2593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5DC89-F679-425C-B457-3AB8C8B72F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7.4.5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484960" cy="2627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066E8-643C-48E0-9E81-4BAB50F28A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7.4.6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54280" y="1676520"/>
            <a:ext cx="5484600" cy="3038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FF945-3A65-4C23-B5D9-DC5F68ACE4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 7.5.1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484600" cy="1616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15C3E-806A-4B78-B475-0C0CE42638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2T16:11:46Z</dcterms:created>
  <dc:creator>Dave Charlesworth</dc:creator>
  <dc:description/>
  <dc:language>en-US</dc:language>
  <cp:lastModifiedBy>Dave Charlesworth</cp:lastModifiedBy>
  <cp:lastPrinted>2003-02-25T16:10:39Z</cp:lastPrinted>
  <dcterms:modified xsi:type="dcterms:W3CDTF">2003-03-06T14:17:14Z</dcterms:modified>
  <cp:revision>75</cp:revision>
  <dc:subject/>
  <dc:title>No Slide Title</dc:title>
</cp:coreProperties>
</file>