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57.pct" ContentType="image/x-pict"/>
  <Override PartName="/ppt/media/image18.pct" ContentType="image/x-pict"/>
  <Override PartName="/ppt/media/image1.jpeg" ContentType="image/jpeg"/>
  <Override PartName="/ppt/media/image44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4.pct" ContentType="image/x-pict"/>
  <Override PartName="/ppt/media/image34.pct" ContentType="image/x-pict"/>
  <Override PartName="/ppt/media/image28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45.pct" ContentType="image/x-pict"/>
  <Override PartName="/ppt/media/image46.pct" ContentType="image/x-pict"/>
  <Override PartName="/ppt/media/image50.pct" ContentType="image/x-pict"/>
  <Override PartName="/ppt/media/image13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40.pct" ContentType="image/x-pict"/>
  <Override PartName="/ppt/media/image52.pct" ContentType="image/x-pict"/>
  <Override PartName="/ppt/media/image41.pct" ContentType="image/x-pict"/>
  <Override PartName="/ppt/media/image53.pct" ContentType="image/x-pict"/>
  <Override PartName="/ppt/media/image42.pct" ContentType="image/x-pict"/>
  <Override PartName="/ppt/media/image54.pct" ContentType="image/x-pict"/>
  <Override PartName="/ppt/media/image43.pct" ContentType="image/x-pict"/>
  <Override PartName="/ppt/media/image55.pct" ContentType="image/x-pict"/>
  <Override PartName="/ppt/media/image56.pct" ContentType="image/x-pict"/>
  <Override PartName="/ppt/media/image31.pct" ContentType="image/x-pict"/>
  <Override PartName="/ppt/media/image29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38.pct" ContentType="image/x-pict"/>
  <Override PartName="/ppt/media/image8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6.pct" ContentType="image/x-pict"/>
  <Override PartName="/ppt/media/image3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262E-35AE-4F5E-93C2-6E3CCE884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EF4A-021C-4C74-9DF7-4FB04D30E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EE6E-28B8-424D-AF1A-F14BA733E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8976-D5DD-42DF-ADD0-C812013F6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238E-D55C-49F7-A03A-5365910CA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8FCE-16B3-42FB-B964-1FA1551D0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1949-66B5-4D9D-9CEA-EE33C3753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6211-9F38-4D14-B560-E1823392A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9DC4-353C-4E64-8A3C-92AA18B40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1BF3-55BC-4543-B376-40FFAA90E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15E6-8842-456D-8B20-6E83C670B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92E1-B9E4-4983-9031-34BBC73C1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pyright© Probabilistic Publishing and Robert Winkler, 2003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5760-284D-45A8-A0DD-BB441D4E9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4507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38.pct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image" Target="../media/image43.pct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image" Target="../media/image45.pct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ct"/><Relationship Id="rId2" Type="http://schemas.openxmlformats.org/officeDocument/2006/relationships/image" Target="../media/image49.pct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ct"/><Relationship Id="rId2" Type="http://schemas.openxmlformats.org/officeDocument/2006/relationships/image" Target="../media/image53.pct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2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4600" cy="20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F547-1F07-49AC-95FB-3ED32DB288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3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0240" y="1828800"/>
            <a:ext cx="5484960" cy="268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6C01-55A6-4E43-9D47-1F7137D30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3.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6160" cy="496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B739-A272-4456-86CB-5EF3DD022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3.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0240" y="1905120"/>
            <a:ext cx="5484960" cy="2676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E212-4293-430F-8C6C-21A36F3D2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3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3975120" cy="607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87A3-EBD6-4DC1-A0B8-9A59F606EC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84600" cy="28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7975-ACA7-489D-874F-130CA103E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0240" y="1676520"/>
            <a:ext cx="5484960" cy="3301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A053-7236-4ECC-B160-A6414922E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0240" y="1676520"/>
            <a:ext cx="5484960" cy="345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3ECE-893B-4786-AD77-7BD07F168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348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726C-26AF-4BFB-96A4-321C596F7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30240" y="1371600"/>
            <a:ext cx="5484960" cy="4691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2AFF-20F4-4FF0-A15A-F9C6022843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4960" cy="345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B39C-FDFC-4B46-B069-42774341E6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2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484600" cy="2982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BDF1-5BF2-42C8-825B-1FDE8A218F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349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5760-7A41-45AB-B59C-C17F9E5525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4.8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0240" y="1676520"/>
            <a:ext cx="5484960" cy="313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E182-44AD-420E-BCF5-462C2E3CE4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4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27760" cy="55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1994-3D6A-42B7-A80E-2335A57B75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5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295520" cy="592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1E62-41E7-42A0-9B99-FB4CDCA9E3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5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4960" cy="437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0347-4D24-424B-99A8-2E2C0E970E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5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287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1335-C902-41CD-8094-6EF1263A95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5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3838320" cy="603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D9D4-81D5-4DBD-969E-8BCFA11CBA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5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4752720" cy="543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58E6-A302-49EF-ADF6-B56FEFFBDA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5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570200" cy="489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0409-BE8F-49E3-B03C-7D21D02398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5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4960" cy="3419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72DC-8F65-46AD-A261-2F8B136A32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2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484600" cy="271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BF99-EBE4-4DCC-80E8-6C4AD85C3E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5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3349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5FF8-5904-4807-8677-321645C494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5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4752720" cy="540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4878-FB18-491B-9EE0-A2BC2EC998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6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54280" y="1828800"/>
            <a:ext cx="5484600" cy="205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7FEC-2FEB-485E-8055-1F7420595A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6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65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DD80-EF29-4313-9B23-1CE3C5DC29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6.6.3 and 6.6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84600" cy="1682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5484600" cy="28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F9E6-FA7F-4CF6-A23A-3BE1F5AE32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6.7.1 and 6.7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4960" cy="168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48496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32A7-85AD-40A9-AA5E-7EC838475C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7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4280" y="1676520"/>
            <a:ext cx="5484600" cy="2981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01C5-8BB0-41BB-B27A-E1EC501F16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6.7.4 and 6.7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4960" cy="198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3657600"/>
            <a:ext cx="5484960" cy="196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2831-6D9A-40B5-9E88-B6D968CC8F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6.7.6 and 6.7.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4960" cy="1944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484960" cy="196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F155-0D07-4D2D-AA7F-4083758C4B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8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285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7F99-104F-47C5-B1BC-824A3024C3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6.2.4 and 6.2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493524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4935240" cy="240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5B4C-5170-4D87-A2F8-4114B9F66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8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293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CC7B-4F9E-4455-B0E2-3DDD7C78E8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8.2 and Figure 6.8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027400" cy="26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5027400" cy="2081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2D52-0637-4240-BBAA-C7B8BEF6B3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10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295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B81B-A8AF-4F94-A7E8-B70857B08C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10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4960" cy="3257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B205-45CA-477F-8448-7E8138D843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6.10.3 and 6.10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4600" cy="180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5484600" cy="221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017F-AADF-43B7-8F39-CF4018ECCC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10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4960" cy="3219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10BD-9FA9-421C-BC0B-0682090D846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for Exercise 1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4280" y="1828800"/>
            <a:ext cx="5484600" cy="269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2154-CEAE-4095-A14B-EBB4C60A4CA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for Exercise 19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4960" cy="196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C263-11E9-4230-A1BF-27FB87BE3F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for Exercise 20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84960" cy="1952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462A-1BFB-401C-B1D5-DE7ABC3524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6.3.1 and 6.3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84600" cy="199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484600" cy="237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404D-C235-4953-A8B1-5109B6666C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3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84600" cy="324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D0E6-2B36-42F4-888C-53018A25F4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6.3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0240" y="1828800"/>
            <a:ext cx="5484960" cy="25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9061-8F62-4489-B51D-388E5CE3D6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3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346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29B3-7427-49A9-B096-0DD02AE7D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6.3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935600" cy="489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1FCE-5468-440E-922E-B40F4C0C00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6:11:46Z</dcterms:created>
  <dc:creator>Dave Charlesworth</dc:creator>
  <dc:description/>
  <dc:language>en-US</dc:language>
  <cp:lastModifiedBy>Dave Charlesworth</cp:lastModifiedBy>
  <cp:lastPrinted>2003-03-05T22:00:12Z</cp:lastPrinted>
  <dcterms:modified xsi:type="dcterms:W3CDTF">2003-03-06T14:16:35Z</dcterms:modified>
  <cp:revision>75</cp:revision>
  <dc:subject/>
  <dc:title>No Slide Title</dc:title>
</cp:coreProperties>
</file>