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0.pct" ContentType="image/x-pict"/>
  <Override PartName="/ppt/media/image29.pct" ContentType="image/x-pict"/>
  <Override PartName="/ppt/media/image31.pct" ContentType="image/x-pict"/>
  <Override PartName="/ppt/media/image11.pct" ContentType="image/x-pict"/>
  <Override PartName="/ppt/media/image6.pct" ContentType="image/x-pict"/>
  <Override PartName="/ppt/media/image36.pct" ContentType="image/x-pict"/>
  <Override PartName="/ppt/media/image12.pct" ContentType="image/x-pict"/>
  <Override PartName="/ppt/media/image7.pct" ContentType="image/x-pict"/>
  <Override PartName="/ppt/media/image37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0.pct" ContentType="image/x-pict"/>
  <Override PartName="/ppt/media/image28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1.jpeg" ContentType="image/jpeg"/>
  <Override PartName="/ppt/media/image18.pct" ContentType="image/x-pict"/>
  <Override PartName="/ppt/media/image20.pct" ContentType="image/x-pict"/>
  <Override PartName="/ppt/media/image1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8663-DF9E-40B7-8D33-8FC8355D4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867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F841-0FF1-49D9-80E7-EE11D31C1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6CD29-C4FE-4233-84E4-5A4BDCD1D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23D32-B6E7-4D44-B6A5-BC6117CDC6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C0093-E3DA-401A-BEDF-69E1BD6487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CD28-0D1F-4D63-A25C-430394D3A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E7334-AEFB-4B3D-8500-6526F741A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09A8-D43F-484C-85E7-D21AA6A05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8C20-B0F0-4CE7-B66D-FF271040C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8E75-9422-4FDB-9CCD-8113ECDEF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1420-5FB6-4DEF-A567-6FD53F32C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2B26-185A-424D-81E5-772DBF288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295280" y="6248520"/>
            <a:ext cx="472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pyright© Probabilistic Publishing and Robert Winkler, 2003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1BF0-010E-4E43-9DEF-DFC92197D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85800" y="6019920"/>
            <a:ext cx="45072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4.pct"/><Relationship Id="rId3" Type="http://schemas.openxmlformats.org/officeDocument/2006/relationships/image" Target="../media/image25.pct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image" Target="../media/image33.pct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s 5.2.1 and 5.2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219320"/>
            <a:ext cx="2361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84960" cy="203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5484960" cy="1903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1FAB-A2F1-43B1-9BCD-2BD754CE13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5.3.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30240" y="1905120"/>
            <a:ext cx="5484960" cy="203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723E-E14F-4B22-BD1E-033EF89B16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s 5.3.6 and 5.3.7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75040" y="1295280"/>
            <a:ext cx="4935240" cy="2405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75040" y="3809880"/>
            <a:ext cx="4935240" cy="2435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9885-D641-473B-B344-14E6ACF857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5.6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4960" cy="20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3C86-39C6-4ECD-AF24-FABB39A33C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s 5.6.2 and 5.6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484960" cy="2021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52480" y="3581280"/>
            <a:ext cx="5484960" cy="2016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3463-DA04-4593-B7CE-97BA9AB364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5.6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30240" y="1676520"/>
            <a:ext cx="5484960" cy="2781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1B99-D938-44D2-9EA2-D40F91E9C6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5.6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4960" cy="254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078B-4DCB-4AF5-9F0F-5730B23C41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5.6.2, 5.6.3, and 5.6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570560" cy="1638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09680" y="2971800"/>
            <a:ext cx="4570560" cy="1619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09680" y="4648320"/>
            <a:ext cx="4570560" cy="160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DFF3-FE5E-4CB9-A815-16A57A5D41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5.6.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4960" cy="209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0DC93-AABE-4EB4-8FE8-D63BBE004A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5.6.6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84960" cy="2828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4711-A3D4-46B9-B7E3-C0BBC8C417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5.6.7 and 5.6.8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570560" cy="229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1295280"/>
            <a:ext cx="4570560" cy="2527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CCE8-D434-4F4E-9997-AC0ECC9CF9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s 5.2.3 and 5.2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2880" y="1295280"/>
            <a:ext cx="5027400" cy="237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2880" y="3733920"/>
            <a:ext cx="5027400" cy="2395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89C4A-2AEA-48CF-9D43-95D3CA58B3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5.10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4280" y="1447920"/>
            <a:ext cx="5484600" cy="3421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2142-BAC7-409B-B3E0-82F4B5CA9D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5.10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035240" cy="5943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7DDC4-91AD-479E-BF16-5258E8D74D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5.10.2 and Table 5.10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570560" cy="1984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570560" cy="2695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8673-3D4B-409E-A509-920C9D18FE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5.10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484960" cy="3467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7D42A-B3C3-4D61-9707-45EDF4F87A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5.10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84960" cy="3503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05C19-BC12-4EDC-B06E-4126539201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5.10.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484960" cy="349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CBEF5-7FBE-4A6F-9B72-F9CA1748AC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5.10.6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54280" y="1523880"/>
            <a:ext cx="5484600" cy="347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D170D-1B5A-407E-97EA-E9E85E91BC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s 5.2.5 and 5.2.6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01840" y="1295280"/>
            <a:ext cx="4479840" cy="241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01840" y="3809880"/>
            <a:ext cx="4479840" cy="2432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43E2-DCF8-454B-8A73-A6BE7FC5C7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5.2.1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1219320"/>
            <a:ext cx="2361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484600" cy="2481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7405-8B26-4211-979C-DF654F4018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5.2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4960" cy="462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56BF-34F1-42C0-94E2-3A36E7000F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5.2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0240" y="1523880"/>
            <a:ext cx="5484960" cy="337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6580-C550-493E-8981-2EA5FDC238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5.3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30240" y="1676520"/>
            <a:ext cx="5484960" cy="2590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3A69-A321-4CEC-950E-77811CCEC0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s 5.3.2 and 5.3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30240" y="1447920"/>
            <a:ext cx="5484960" cy="2023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30240" y="3733920"/>
            <a:ext cx="5484960" cy="20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8C5F-4B69-4705-A49D-FDEF7FEEB0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5.3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0240" y="1752480"/>
            <a:ext cx="5484960" cy="2700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6DC1-771E-4114-AEB6-EB8AF64A70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6:11:46Z</dcterms:created>
  <dc:creator>Dave Charlesworth</dc:creator>
  <dc:description/>
  <dc:language>en-US</dc:language>
  <cp:lastModifiedBy>Dave Charlesworth</cp:lastModifiedBy>
  <cp:lastPrinted>2003-03-05T14:16:45Z</cp:lastPrinted>
  <dcterms:modified xsi:type="dcterms:W3CDTF">2003-03-14T02:35:28Z</dcterms:modified>
  <cp:revision>72</cp:revision>
  <dc:subject/>
  <dc:title>No Slide Title</dc:title>
</cp:coreProperties>
</file>