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11.pct" ContentType="image/x-pict"/>
  <Override PartName="/ppt/media/image12.pct" ContentType="image/x-pict"/>
  <Override PartName="/ppt/media/image7.pct" ContentType="image/x-pict"/>
  <Override PartName="/ppt/media/image37.pct" ContentType="image/x-pict"/>
  <Override PartName="/ppt/media/image13.pct" ContentType="image/x-pict"/>
  <Override PartName="/ppt/media/image8.pct" ContentType="image/x-pict"/>
  <Override PartName="/ppt/media/image38.pct" ContentType="image/x-pict"/>
  <Override PartName="/ppt/media/image40.pct" ContentType="image/x-pict"/>
  <Override PartName="/ppt/media/image9.pct" ContentType="image/x-pict"/>
  <Override PartName="/ppt/media/image39.pct" ContentType="image/x-pict"/>
  <Override PartName="/ppt/media/image41.pct" ContentType="image/x-pict"/>
  <Override PartName="/ppt/media/image30.pct" ContentType="image/x-pict"/>
  <Override PartName="/ppt/media/image28.pct" ContentType="image/x-pict"/>
  <Override PartName="/ppt/media/image31.pct" ContentType="image/x-pict"/>
  <Override PartName="/ppt/media/image29.pct" ContentType="image/x-pict"/>
  <Override PartName="/ppt/media/image6.pct" ContentType="image/x-pict"/>
  <Override PartName="/ppt/media/image36.pct" ContentType="image/x-pict"/>
  <Override PartName="/ppt/media/image10.pct" ContentType="image/x-pict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33.pct" ContentType="image/x-pict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BFD3-0F58-4686-902F-EA914ADD3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867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FD77B-7009-49DC-8990-264106276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789FA-C7E2-4B96-99D1-AF39C4E85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A7D6-AABC-47F0-BA03-7EA4E5631F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ACF35-D068-44F8-A460-DCB53E1BA0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0B0D6-EAD2-4675-BD94-722B96AC2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DD1D1-751B-46A6-A001-E3ED1C4AB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61014-0B6B-42E5-9F1E-1287AF2AF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5C561-7F1E-4A00-BEC5-B725BA9C2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CB557-E5C8-426F-81ED-3840C0A53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53D83-A492-4D63-9A49-01CB3EF4E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867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30296-4859-404D-A674-29856F0FB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295280" y="6248520"/>
            <a:ext cx="472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opyright© Probabilistic Publishing and Robert Winkler, 2003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C7F2-132C-4A56-8402-37CD869F8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85800" y="6019920"/>
            <a:ext cx="45072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image" Target="../media/image29.pct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image" Target="../media/image33.pct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ct"/><Relationship Id="rId2" Type="http://schemas.openxmlformats.org/officeDocument/2006/relationships/image" Target="../media/image35.pct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ct"/><Relationship Id="rId2" Type="http://schemas.openxmlformats.org/officeDocument/2006/relationships/image" Target="../media/image37.pct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ct"/><Relationship Id="rId2" Type="http://schemas.openxmlformats.org/officeDocument/2006/relationships/image" Target="../media/image39.pct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ct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4.1.1 and 4.1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219320"/>
            <a:ext cx="2361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30240" y="1600200"/>
            <a:ext cx="5484960" cy="1720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30240" y="3657600"/>
            <a:ext cx="5484960" cy="1717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E18C9-CC16-4051-AE13-239423CE12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4.3.4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54280" y="1676520"/>
            <a:ext cx="5484600" cy="3189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FC1D0-A992-4E4B-96CE-A4D9ACF12F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4.3.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84960" cy="3216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CADDE-FE69-45EC-88A3-FACB428D92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4.4.1, 4.4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845240" cy="2943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09680" y="4343400"/>
            <a:ext cx="4845240" cy="1903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CB4BC-24EC-4D63-9D19-6C95D23F8A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4.4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84960" cy="2125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3884A-BB9B-493C-9AA9-6939AD8761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4.5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4960" cy="158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5EB71-1A60-4A41-A366-013B081B11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4.5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4960" cy="260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38A1E-EE1D-4FDE-98A0-A8F0815D97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4.5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4960" cy="2239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42064-6DFB-4412-9E28-51F4768039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4.6.1 and Figure 4.6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484960" cy="1936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28800" y="3733920"/>
            <a:ext cx="5484960" cy="1652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0D926-5555-4274-BC77-1518F7A089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4.6.2 and 4.6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54280" y="1371600"/>
            <a:ext cx="5484600" cy="2006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830240" y="3505320"/>
            <a:ext cx="5484960" cy="2220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92403-F0BE-40CD-B3DC-C6E2DDAC9B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4.8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30240" y="1905120"/>
            <a:ext cx="5484960" cy="176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D49CE-B88D-465E-9853-5FEB39295B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4.1.3 and 4.1.4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1219320"/>
            <a:ext cx="2361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484960" cy="1744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52480" y="3657600"/>
            <a:ext cx="5484960" cy="171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18E72-73E9-47D2-AFC3-49DFD4D5CA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4.8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484600" cy="172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60DFF-127C-4304-A538-5126810FE8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4.8.3 and 4.8.4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484960" cy="2019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830240" y="3505320"/>
            <a:ext cx="5484960" cy="2476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CFF13-BF8F-48DE-BF7D-C97F9C05BB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4.9.1 and 4.9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484960" cy="1469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28800" y="3048120"/>
            <a:ext cx="5484960" cy="2395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8967D-2457-4EB7-81F7-D731E2C2AE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4.9.1 and Figure 4.9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484960" cy="2449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828800" y="3962520"/>
            <a:ext cx="5484960" cy="1438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7BA4C-0FBF-4EB2-BFD1-A0AF4F33D4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4.9.2 and Figure 4.9.4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4960" cy="2397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828800" y="3809880"/>
            <a:ext cx="5484960" cy="2297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0E1E8-1C42-4612-BE7F-47082B64FE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4.10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484600" cy="2479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53379-07A2-40BF-9CE4-D11236789F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4.10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4960" cy="2146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C634C-C279-4C77-972C-9D06B6D2A9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4.1.5, 4.1.6, and 4.1.7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27760" cy="158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057400" y="2971800"/>
            <a:ext cx="5027760" cy="1596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057400" y="4648320"/>
            <a:ext cx="5027760" cy="1550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04D34-3422-4301-9572-E340D48E1D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4.1.8 and 4.1.9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4960" cy="2049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28800" y="3505320"/>
            <a:ext cx="5484960" cy="2484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FA73C-B013-40D1-8E41-68B2359D87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4.1.10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84960" cy="2403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88482-654E-4BFA-B8F9-0D53110787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4.2.1 and 4.2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30240" y="1295280"/>
            <a:ext cx="5484960" cy="2136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830240" y="3581280"/>
            <a:ext cx="5484960" cy="257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9B389-8327-4ED8-95EE-21E9FE6761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4.2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30240" y="1752480"/>
            <a:ext cx="5484960" cy="257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64B54-3C64-413F-B6CA-B01ED182C7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4.3.1 and 4.3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7440" y="1295280"/>
            <a:ext cx="4570560" cy="2151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7440" y="3505320"/>
            <a:ext cx="4570560" cy="268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AC7E9-7241-421B-AF7B-3E888D551E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4.3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84960" cy="3189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A74B7-6C2E-4097-939B-3841FCDAA1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6:11:46Z</dcterms:created>
  <dc:creator>Dave Charlesworth</dc:creator>
  <dc:description/>
  <dc:language>en-US</dc:language>
  <cp:lastModifiedBy>Dave Charlesworth</cp:lastModifiedBy>
  <cp:lastPrinted>2003-02-27T17:20:16Z</cp:lastPrinted>
  <dcterms:modified xsi:type="dcterms:W3CDTF">2003-03-06T14:13:18Z</dcterms:modified>
  <cp:revision>69</cp:revision>
  <dc:subject/>
  <dc:title>No Slide Title</dc:title>
</cp:coreProperties>
</file>