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1BB0-F546-4DC2-BA8C-FC1162958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CC5B-BD19-4476-92C0-93A19E247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3A37-27D1-49F5-9525-D137F917F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63FF-2648-4DDE-8CDD-E995C5004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CA74-B269-4042-B4EA-45771384B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2F7A-432F-41E8-B036-DC7F87EFE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F474-27EC-4476-AC24-D2E68770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DA0E-8BA6-49C4-A8B1-51254B09D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F3BF-C214-4667-8B82-5116738A2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17BF-3EF8-4950-B3E6-F6A36EEB3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5ABD-FE0E-4DAC-BBD5-C79378B6F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E237-CA57-418A-AE9B-FA54A750D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EFB-4AAB-464F-80D3-28329EEC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1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4960" cy="216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AE9E-FF58-4269-B34A-3D55212B69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3.3.1 and 3.3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84600" cy="2217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5484600" cy="222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5374-3D03-4010-8124-355E56E1E9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3.3 and Table 3.3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5484960" cy="17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484960" cy="235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FEDB-249D-4FBD-9914-1C229E3577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3.3.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84600" cy="16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4948-D30D-4F44-A25F-ADCBE24B3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3.4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84960" cy="16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5183-ACB7-47F3-8D8C-BC3370ADD6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3.4.1 and 3.4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484960" cy="221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54280" y="3657600"/>
            <a:ext cx="5484600" cy="223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8CEF-D003-454B-81F7-05A97A38DE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5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7760" cy="478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531A-50E3-44C1-8C09-F4F8F62CB3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5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570200" cy="492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A49A-26BD-4DF3-AD19-75F86C739E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3.6.1 and 3.6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0240" y="1447920"/>
            <a:ext cx="5484960" cy="137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0240" y="3124080"/>
            <a:ext cx="5484960" cy="133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3006-815E-455F-A4A9-262E3F1940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3.7.1 and Figure 3.7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0240" y="1447920"/>
            <a:ext cx="5484960" cy="166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0240" y="3429000"/>
            <a:ext cx="5484960" cy="227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5608-AD50-4A6C-A78B-C21D188FB0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3.7.2 and Figure 3.7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1339920"/>
            <a:ext cx="5484960" cy="1631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484960" cy="228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D5E9-B053-46FB-B19B-646D99FDC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3.1.2 and 3.1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67040" y="1295280"/>
            <a:ext cx="5119560" cy="197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81080" y="3352680"/>
            <a:ext cx="5119920" cy="284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56D1-CBA6-4292-A4BA-5AF494C2E9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3.1.4 and 3.1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4112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5119920" cy="20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5119920" cy="27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D034-618D-4EF4-A9AB-437DFC06F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3.1.6 and 3.1.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4960" cy="191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484960" cy="26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CEB-7F98-4CB9-8B6B-52E7E573B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1.8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0240" y="1752480"/>
            <a:ext cx="5484960" cy="186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5C64-1A68-485E-AFC7-5FBF9D470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1.9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4960" cy="226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CFA4-7BFA-4C67-B7C6-2BE25F415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1.1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0240" y="1905120"/>
            <a:ext cx="5484960" cy="173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4C05-7C0B-4185-AB09-295A12B429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3.1.11 and Table 3.1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25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5484960" cy="157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AA18-627C-4C61-BDC8-52FFF29A65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3.3.1 and 3.3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4280" y="1447920"/>
            <a:ext cx="5484600" cy="183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54280" y="3505320"/>
            <a:ext cx="5484600" cy="1668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5B63-D0ED-4C21-A5B7-69E6C3AE9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3-05T13:58:17Z</cp:lastPrinted>
  <dcterms:modified xsi:type="dcterms:W3CDTF">2003-03-06T14:12:44Z</dcterms:modified>
  <cp:revision>40</cp:revision>
  <dc:subject/>
  <dc:title>No Slide Title</dc:title>
</cp:coreProperties>
</file>