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9384-57EB-4D77-A0F3-A53859F78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3D65-4CF2-44B3-884C-DDB389051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E385-87E8-4002-8B31-BC8666672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384D-040B-4151-9F81-4B7ED0A65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5A25-95A5-4DC5-8CD5-66CA8D9ED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1F63-BE85-413D-8169-9AB6685A7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167F-6295-49B3-8476-567A2C94B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02F6-8C4A-4264-8662-B11B8BCE4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1630-484B-4D99-87C8-BF410891E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BA7C-E940-475E-B24D-329FF8A85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C928-1EFF-47E4-8A6E-13C225B76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EC06-F349-4DEF-8B71-79D460FD1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95280" y="624852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pyright© Probabilistic Publishing and Robert Winkler, 2003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1807-EC48-4400-93E2-50C556F43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45072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2.1.1, 2.1.2, and 2.1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4960" cy="156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2971800"/>
            <a:ext cx="5484960" cy="1623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828800" y="4724280"/>
            <a:ext cx="5484960" cy="1494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1875-8B26-49CD-B587-9305296746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2.1.4, 2.1.5, and 2.1.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484960" cy="153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28800" y="4648320"/>
            <a:ext cx="5484960" cy="15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828800" y="1295280"/>
            <a:ext cx="5484960" cy="154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7815-9735-41AA-842C-09E8FCB48A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 2.2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4960" cy="295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3AA0-E4C5-428D-B402-2A0F775FC6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2.5.1 and 2.5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484960" cy="1582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5484960" cy="15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7FAB-B859-496E-AC49-C0CF8F23C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 2.5.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30240" y="1905120"/>
            <a:ext cx="5484960" cy="214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2CD2-D87C-4840-A673-F6BDA363F1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2.6.1 and 2.6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4960" cy="2670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5484960" cy="182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4C02-2429-4A55-AF1D-9D4008B4A0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 2.6.1 and 2.6.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84600" cy="18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5484600" cy="135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69B0-EC28-4859-85A9-6F88C63E47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gures 2.6.3 and 2.7.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6560" y="1523880"/>
            <a:ext cx="5484960" cy="156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06560" y="3429000"/>
            <a:ext cx="5484960" cy="157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9FA8-2D04-4625-8248-2B1AF9C601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6:11:46Z</dcterms:created>
  <dc:creator>Dave Charlesworth</dc:creator>
  <dc:description/>
  <dc:language>en-US</dc:language>
  <cp:lastModifiedBy>Dave Charlesworth</cp:lastModifiedBy>
  <cp:lastPrinted>2003-02-27T15:35:13Z</cp:lastPrinted>
  <dcterms:modified xsi:type="dcterms:W3CDTF">2003-03-06T14:11:56Z</dcterms:modified>
  <cp:revision>15</cp:revision>
  <dc:subject/>
  <dc:title>No Slide Title</dc:title>
</cp:coreProperties>
</file>